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84C-2723-48E3-85C6-70E49D43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E80-F105-4882-B872-04ED60F9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879-A775-4652-A80E-1033E3F4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C71-B8DF-4C0E-8A4C-CE59D2A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703D-3EB5-4D5D-B2FC-C14482CE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5AD4-0E1F-4973-8F9A-8D24D13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A667-780F-4618-82C3-F75603DA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F9C-919D-4EC4-A3AD-A89C4172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2BE5-EF11-4294-B2EE-BDA03913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EC2-D0EE-4A6A-A1FF-BC35860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DE84-D61F-4104-99EF-796BD3A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D00-5F5B-4840-B3B1-4B044C81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D4E-C28D-4214-AB5B-8ECCD85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EF3A-6DA1-43E7-B610-BAE1C74F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2E2-EE10-4949-AA02-734F5BA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89D-E4CB-4EF6-A65E-A6604CEB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B8EA-AFC3-46CD-A018-5A80BC06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713A-D2AA-438A-B831-7C6E5258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9E00-2B3F-465A-B2CD-DA1DF97F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FB40-83E0-4A38-8B4F-A0AC868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90E5-3F70-46E3-9715-4A6B0624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922B-39F4-4DBE-986F-E6AF6818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B4D-988C-4B72-98A4-82460D35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D45B-11A0-4428-BAB2-5B2AFF0A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C45F-58DD-4363-BED7-C8547779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2853-8CC7-4455-B71D-5B6CA88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C903-A9DE-4E77-9D0A-CE62192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FD79-4175-4357-AEF4-617B98F6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CFC7-14B7-4EE1-8AC8-51F5E055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47C5-D697-47C6-BBE4-E29753B2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D075-30CF-454F-80A0-9B5900F0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7D72-20FD-4B2E-8F55-2B9AF76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B797-8E38-4C27-B559-B6F29189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AB7-4A6F-481E-8C3A-331F5174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0A6E-EF11-4E49-AFA0-1D92078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47DF-5163-422F-B340-E35B493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B3AD-7539-4D09-B037-DF737EBD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7EF1-0852-48DD-8567-5DCFE76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8FCD-6F16-47C5-8889-D7B7A22F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A40D-2138-4883-BB00-30DF13A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ACE8-3280-4E41-AE3F-058B7C0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56F8-43AE-410B-8B91-BB808356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E192-4207-4046-AF7A-5501A5E1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22BC-D7FB-460A-8732-8B4CABBD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385-1DF7-4D75-8D5C-28A1A34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C581-2739-4588-B609-7523F7FD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48FC-5DC7-4083-AB7A-4397E4D5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3060-D5C5-4F50-9E70-4964A7E0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998C-0C10-43A4-88E8-D2B26808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C77A7-4016-4383-B9ED-0486AE1B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9980-763A-466C-A623-A3B1DCA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54D0-C11D-4663-BE1F-DF099BB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558E-57AF-4C9E-90BA-1E8499A3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6081-5DFD-4A61-BFA2-2F67706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55D8-4E9C-40E9-8E5E-B5ED7E60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D37-356A-4879-9131-029AB2A0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9A28C-D609-4BF0-B6A0-93A4BD57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96724-DE94-4453-8F0A-AA33995F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24127-970F-4BA7-A9AE-5314D5FD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D491-C18B-4F1C-95F5-588C998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C4DD-70EC-4689-B4B0-4615A2D5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1E9BD-B6DB-402A-B51D-B6DA0F55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3572-6BD9-46C6-9FB7-E0C68AC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F8E2-EF32-4775-BCF7-4B444C3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306A-B294-433D-BEF2-174F520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EAC7-9835-41D0-A3E9-988FA52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894-3058-456F-8EA1-417DDA6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7D54-3FD4-4668-9A83-EE4040DB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91B31-556D-42C8-8EA3-FF3FA869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9357-D0D3-4924-8003-8C13AF70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6A5-4298-4A74-BBE8-A0F2050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0C7-07AD-4813-B7BF-412208A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C98F-017A-4A74-93DE-AF7589B44A2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5437-7B8E-4C01-91A0-0BA3F114D8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2C27-11AF-48AC-9EB2-CDE29D2462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A213-8017-49FB-9790-CBF6841CBDB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307-EF7F-4A55-9837-127D72E445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3688-D1F3-4266-B8F3-B6DBF75EEA0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90;&#1077;&#1082;&#1090;&#1086;&#1088;&#1085;&#1099;&#1081;_&#1087;&#1088;&#1080;&#1105;&#1084;&#1085;&#1080;&#1082;" TargetMode="External"/><Relationship Id="rId2" Type="http://schemas.openxmlformats.org/officeDocument/2006/relationships/hyperlink" Target="http://ru.wikipedia.org/wiki/&#1044;&#1077;&#1090;&#1077;&#1082;&#1090;&#1086;&#1088;&#1085;&#1099;&#1081;_&#1087;&#1088;&#1080;&#1105;&#1084;&#1085;&#1080;&#1082;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Детекторный приёмник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42640" y="3857760"/>
            <a:ext cx="6041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Меринова А.П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714760" y="50720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Горчаков Д.А.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роблемный вопро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диоприемник без питания!!! Реально это или нет?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и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Узнать, возможна ли работа радиоприемника без питания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рактически собрать схему детекторного приёмник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Ход исследован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4200" y="9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Дете́кторный приёмник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— самый простой, базовый, вид радиоприёмника. Состоит из колебательного контура, к которому подключены антенна и заземление, и диодного (в более раннем варианте кристаллического) детектора, выполняющего демодуляцию амплитудно-модулированного сигнала. Сигнал звуковой частоты с выхода детектора, как правило, воспроизводится высокоомными наушникам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хема простейшего детекторного приём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58798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з чего же состоит детекторный радиоприемник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Он состоит из антенны и заземления подключённых к колебательному контуру из катушки L1 и перестраиваемого конденсатора C1, диодного детектора на диоде VD1, фильтра нижних частот, образованного C2 и сопротивлением наушников BF1, и самих наушников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Недостатки и достоинства прием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Даже для приёма мощных радиостанций детекторный приёмник требует антенны длиной в несколько метров, а также правильного заземления. Единственное важное достоинство детекторного приёмника — он совершенно не требует внешнего питания и может быть собран из подручных средств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4143240"/>
            <a:ext cx="79297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исследуемой работе я узнала что существуют радиоприемники не требующие внешнего питания. Тщательно изучив его, мне удалось собрать детекторный радиоприемник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071800" y="785880"/>
            <a:ext cx="4379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Times New Roman"/>
                <a:hlinkClick r:id="rId1"/>
              </a:rPr>
              <a:t>http://ru.wikipedia.org/wiki/</a:t>
            </a:r>
            <a:r>
              <a:rPr b="0" lang="ru-RU" sz="3200" spc="-1" strike="noStrike" u="sng">
                <a:solidFill>
                  <a:srgbClr val="ff9999"/>
                </a:solidFill>
                <a:uFillTx/>
                <a:latin typeface="Times New Roman"/>
                <a:hlinkClick r:id="rId2"/>
              </a:rPr>
              <a:t>Детекторный_приёмник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Батраков А.Д. и Кин С. Элементарная радиотехника (ч. 1. Детекторные приемники). 1951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24086</cp:lastModifiedBy>
  <dcterms:modified xsi:type="dcterms:W3CDTF">2010-05-22T05:29:00Z</dcterms:modified>
  <cp:revision>70</cp:revision>
  <dc:subject/>
  <dc:title>Слайд 1</dc:title>
</cp:coreProperties>
</file>